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0AAF9-C0F0-47E6-9317-91508CCF7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48F89-06C2-49A7-A1DB-9AA0B4E7E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AF523-00B4-4C6A-8C60-84BBD1838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66311-3F85-4EE9-BAF0-9E79914E1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58351-65AF-4F7C-9843-0992C3D37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770FE-819F-4C0D-80A1-0557B8D7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B2F7-4E4F-48C9-B4F8-91282F030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D0CDC-BA32-4E8A-A66A-AD30C453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80F0A-ABCE-4FCF-B747-52A2F8BEA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6EE39-8E5A-45AB-A797-7A2DD5C02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7D706-89D3-44A9-BC5D-697165B94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AB5E5-6CEF-44F9-8A35-0B0B29D89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F540-BE9D-41D3-817F-A5D9E32220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a:t>
            </a:r>
            <a:r>
              <a:rPr b="1" lang="tr-TR" sz="2000" spc="-1" strike="noStrike">
                <a:solidFill>
                  <a:srgbClr val="203864"/>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203864"/>
                </a:solidFill>
                <a:latin typeface="Calibri"/>
              </a:rPr>
              <a:t>BASINLA İLİŞKİLER ŞUBE MÜDÜRLÜĞ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23" descr="basinlailiskiler-web"/>
          <p:cNvPicPr/>
          <p:nvPr/>
        </p:nvPicPr>
        <p:blipFill>
          <a:blip r:embed="rId3"/>
          <a:stretch/>
        </p:blipFill>
        <p:spPr>
          <a:xfrm>
            <a:off x="7277040" y="179280"/>
            <a:ext cx="2184480" cy="21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3:53:36Z</dcterms:modified>
  <cp:revision>20</cp:revision>
  <dc:subject/>
  <dc:title>PowerPoint Presentation</dc:title>
</cp:coreProperties>
</file>