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67AA9-03F8-4C63-8744-A38A90300F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C171B-54C8-47A6-BDF1-4B41D6952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1A411E-1CA3-41D5-BB2B-A4D14C2F9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FF41C-6412-4C32-A9D0-AEB4ECBBF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31B3D-FC66-4D57-80A1-DAA536B11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3AD6B-6907-4C87-9588-4F0583032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03C21-B0A1-4524-85A4-C951985D5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E5F68-514D-40E9-BCB2-5BFD4599A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08825-1527-4476-827E-F1BE6F38B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DBC45-0B9F-4C5A-8ADA-3F9999A0B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5AE14-FB44-45FF-A4FE-EDF10D624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B4F72-1714-4CB9-AD2E-00D38BA137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7C536-1D5F-481B-BA50-E481C066CC4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Calibri"/>
              </a:rPr>
              <a:t>EGE ÜNİVERSİTESİ</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Calibri"/>
              </a:rPr>
              <a:t>BASINLA İLİŞKİLER ŞUBE MÜDÜRLÜĞÜ</a:t>
            </a:r>
            <a:endParaRPr b="0" lang="en-US" sz="32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Picture 22" descr="basinlailiskiler-web"/>
          <p:cNvPicPr/>
          <p:nvPr/>
        </p:nvPicPr>
        <p:blipFill>
          <a:blip r:embed="rId3"/>
          <a:stretch/>
        </p:blipFill>
        <p:spPr>
          <a:xfrm>
            <a:off x="7315200" y="154080"/>
            <a:ext cx="1731960" cy="173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4T07:53:35Z</dcterms:created>
  <dc:creator>Microsoft Office User</dc:creator>
  <dc:description/>
  <dc:language>en-US</dc:language>
  <cp:lastModifiedBy>GTasarim</cp:lastModifiedBy>
  <dcterms:modified xsi:type="dcterms:W3CDTF">2019-12-20T13:52:58Z</dcterms:modified>
  <cp:revision>20</cp:revision>
  <dc:subject/>
  <dc:title>PowerPoint Presentation</dc:title>
</cp:coreProperties>
</file>